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5AA81-BEA2-4D23-81C3-761B70069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154D5-82E1-4A97-B8CC-55F60C72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9163C-97DB-4FF7-BF7F-686EE52A8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A5AD9-316A-4B58-A513-34E12645E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A048B0F-F91C-41D6-856D-A0E116865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B1C45D-13DC-4400-B94F-86F074CA1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D5ABD6-62E9-432B-860B-593F8A6CA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F33804-3990-49DD-BE9C-E0CF3150E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27773D-CC4C-4DE2-A719-BEE15C48B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D67A5D3-F7AC-43C1-A33A-52B392B56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0309F3-E22A-47C8-B148-3A7FEAAB1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E107C-539A-407C-899B-E9EBE2455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9F3D65-B14E-4E8C-942C-DF3BE542D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93D2CB-E0BC-4A3A-88D0-F4E151661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BFA94B-DA97-440E-89A8-A494EC484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DEEA643-E6A3-4A2D-8225-411B1494E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78D8DE1-3612-4C77-887E-CA13DAAB7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6723-6CDD-423A-9E99-4FFB2B180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3D86-0905-4286-8572-81D94BDDE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ED9C8-8F89-4D07-808A-84F8E04A0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D2699-F027-4187-824F-518BF7783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A0BA2-5CD5-4C9F-9489-AAEC7C203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10395-96CE-4C13-B2EE-59CB9F195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37BE-1BDE-4ABD-A60C-836380284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A4E9-97D7-4D3A-B311-1C5E7AF347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BBE1-82E4-43BD-B48D-26B4AC0E95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n2greece.com/english/maps/ancient-greece-map.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ncient Greece Geograph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llie McGuir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Zachary Zemaitis</a:t>
            </a:r>
            <a:endParaRPr b="0" lang="en-US" sz="32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path" presetID="0">
                                  <p:stCondLst>
                                    <p:cond delay="0"/>
                                  </p:stCondLst>
                                  <p:iterate type="lt">
                                    <p:tmAbs val="360"/>
                                  </p:iterate>
                                  <p:childTnLst>
                                    <p:animMotion origin="layout" path="M 4.44444E-006 1.48148E-006 C 0.05833 0.13935 0.11684 0.27893 0.096 0.35602 C 0.07517 0.4331 -0.05712 0.45347 -0.125 0.46319 C -0.19289 0.47291 -0.25226 0.4162 -0.31181 0.41412 C -0.37136 0.41204 -0.43195 0.46296 -0.48282 0.45092 C -0.53368 0.43889 -0.58455 0.34004 -0.61702 0.34213 C -0.64948 0.34421 -0.6573 0.47129 -0.67761 0.46319 C -0.69792 0.45509 -0.73941 0.33333 -0.73941 0.29305 C -0.73941 0.25278 -0.67084 0.24745 -0.67761 0.22106 C -0.68438 0.19467 -0.76806 0.17801 -0.78021 0.13518 C -0.79237 0.09236 -0.78021 0.03634 -0.75 -0.03519 C -0.7198 -0.10671 -0.65243 -0.25949 -0.59862 -0.29468 C -0.5448 -0.32986 -0.47813 -0.26875 -0.42761 -0.2456 C -0.37709 -0.22246 -0.33351 -0.15162 -0.29601 -0.15625 C -0.25851 -0.16088 -0.23178 -0.27662 -0.20261 -0.27361 C -0.17344 -0.2706 -0.15087 -0.14746 -0.12101 -0.13866 C -0.09115 -0.12986 -0.04462 -0.24584 -0.02362 -0.22107 C -0.00261 -0.1963 0.00052 -0.02824 0.00538 0.01041 E">
                                      <p:cBhvr>
                                        <p:cTn id="6" dur="3000" fill="hold"/>
                                        <p:tgtEl>
                                          <p:spTgt spid="12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iterate type="lt">
                                    <p:tmAbs val="150"/>
                                  </p:iterate>
                                  <p:childTnLst>
                                    <p:animMotion origin="layout" path="M 0 0 C 0.06267 -0.02754 0.22014 0.00672 0.24601 -0.06134 C 0.27187 -0.12939 0.21649 -0.35578 0.15538 -0.40902 C 0.09427 -0.46226 -0.03906 -0.3625 -0.12031 -0.38032 C -0.20156 -0.39814 -0.24375 -0.58588 -0.33247 -0.51551 C -0.42118 -0.44514 -0.63004 -0.09305 -0.65261 0.04144 C -0.67518 0.17593 -0.55174 0.23611 -0.46754 0.2919 C -0.38333 0.34769 -0.23038 0.39468 -0.14722 0.37639 C -0.06406 0.35811 0.02812 0.22732 0.03107 0.18195 C 0.03403 0.13658 -0.12448 0.13449 -0.12969 0.1044 C -0.1349 0.07431 -0.06268 0.02755 0 0 Z">
                                      <p:cBhvr>
                                        <p:cTn id="10" dur="3000" fill="hold"/>
                                        <p:tgtEl>
                                          <p:spTgt spid="123">
                                            <p:txEl>
                                              <p:pRg st="0" end="0"/>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iterate type="lt">
                                    <p:tmAbs val="150"/>
                                  </p:iterate>
                                  <p:childTnLst>
                                    <p:animMotion origin="layout" path="M 0 0 C 0.06267 -0.02754 0.22014 0.00672 0.24601 -0.06134 C 0.27187 -0.12939 0.21649 -0.35578 0.15538 -0.40902 C 0.09427 -0.46226 -0.03906 -0.3625 -0.12031 -0.38032 C -0.20156 -0.39814 -0.24375 -0.58588 -0.33247 -0.51551 C -0.42118 -0.44514 -0.63004 -0.09305 -0.65261 0.04144 C -0.67518 0.17593 -0.55174 0.23611 -0.46754 0.2919 C -0.38333 0.34769 -0.23038 0.39468 -0.14722 0.37639 C -0.06406 0.35811 0.02812 0.22732 0.03107 0.18195 C 0.03403 0.13658 -0.12448 0.13449 -0.12969 0.1044 C -0.1349 0.07431 -0.06268 0.02755 0 0 Z">
                                      <p:cBhvr>
                                        <p:cTn id="14" dur="3000" fill="hold"/>
                                        <p:tgtEl>
                                          <p:spTgt spid="123">
                                            <p:txEl>
                                              <p:pRg st="1" end="1"/>
                                            </p:txEl>
                                          </p:spTgt>
                                        </p:tgtEl>
                                      </p:cBhvr>
                                    </p:animMotion>
                                  </p:childTnLst>
                                </p:cTn>
                              </p:par>
                              <p:animClr clrSpc="rgb">
                                <p:cBhvr>
                                  <p:cTn id="15" dur="1" fill="hold">
                                    <p:stCondLst>
                                      <p:cond delay="0"/>
                                    </p:stCondLst>
                                  </p:cTn>
                                  <p:tgtEl>
                                    <p:spTgt spid="123">
                                      <p:txEl>
                                        <p:pRg st="0" end="0"/>
                                      </p:txEl>
                                    </p:spTgt>
                                  </p:tgtEl>
                                  <p:attrNameLst>
                                    <p:attrName>ppt_c</p:attrName>
                                  </p:attrNameLst>
                                </p:cBhvr>
                                <p:to>
                                  <a:srgbClr val="33cccc"/>
                                </p:to>
                              </p:animClr>
                            </p:childTnLst>
                          </p:cTn>
                        </p:par>
                      </p:childTnLst>
                    </p:cTn>
                  </p:par>
                  <p:par>
                    <p:cTn id="16" fill="hold">
                      <p:stCondLst>
                        <p:cond delay="indefinite"/>
                      </p:stCondLst>
                      <p:childTnLst>
                        <p:par>
                          <p:cTn id="17" fill="hold">
                            <p:stCondLst>
                              <p:cond delay="0"/>
                            </p:stCondLst>
                            <p:childTnLst>
                              <p:animClr clrSpc="rgb">
                                <p:cBhvr>
                                  <p:cTn id="18" dur="1" fill="hold"/>
                                  <p:tgtEl>
                                    <p:spTgt spid="123">
                                      <p:txEl>
                                        <p:pRg st="1" end="1"/>
                                      </p:txEl>
                                    </p:spTgt>
                                  </p:tgtEl>
                                  <p:attrNameLst>
                                    <p:attrName>ppt_c</p:attrName>
                                  </p:attrNameLst>
                                </p:cBhvr>
                                <p:to>
                                  <a:srgbClr val="808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the land is like</a:t>
            </a:r>
            <a:endParaRPr b="0" lang="en-US" sz="4400" spc="-1" strike="noStrike">
              <a:solidFill>
                <a:srgbClr val="e3e3ff"/>
              </a:solidFill>
              <a:latin typeface="Arial"/>
            </a:endParaRPr>
          </a:p>
        </p:txBody>
      </p:sp>
      <p:sp>
        <p:nvSpPr>
          <p:cNvPr id="125" name="PlaceHolder 2"/>
          <p:cNvSpPr>
            <a:spLocks noGrp="1"/>
          </p:cNvSpPr>
          <p:nvPr>
            <p:ph/>
          </p:nvPr>
        </p:nvSpPr>
        <p:spPr>
          <a:xfrm>
            <a:off x="606240" y="1599840"/>
            <a:ext cx="8003880" cy="2436840"/>
          </a:xfrm>
          <a:prstGeom prst="rect">
            <a:avLst/>
          </a:prstGeom>
          <a:noFill/>
          <a:ln w="0">
            <a:noFill/>
          </a:ln>
        </p:spPr>
        <p:txBody>
          <a:bodyPr anchor="t">
            <a:normAutofit fontScale="84000"/>
          </a:bodyPr>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 in Greece is very mountainous</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very few plains</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eople live by the coast</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ce is a pinnacle it is almost all surrounded by water.</a:t>
            </a:r>
            <a:endParaRPr b="0" lang="en-US" sz="2800" spc="-1" strike="noStrike">
              <a:solidFill>
                <a:srgbClr val="ffffff"/>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26" name="il_fi" descr="AncientGreeceGeography"/>
          <p:cNvPicPr/>
          <p:nvPr/>
        </p:nvPicPr>
        <p:blipFill>
          <a:blip r:embed="rId1"/>
          <a:stretch/>
        </p:blipFill>
        <p:spPr>
          <a:xfrm>
            <a:off x="2209680" y="4419720"/>
            <a:ext cx="3657600" cy="219384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path" presetID="0">
                                  <p:stCondLst>
                                    <p:cond delay="0"/>
                                  </p:stCondLst>
                                  <p:childTnLst>
                                    <p:animMotion origin="layout" path="M -3.61111E-006 3.33333E-006 C 0.0533 -0.06829 0.10677 -0.13658 0.16216 -0.12246 C 0.21754 -0.10834 0.32327 -0.03843 0.33247 0.08449 C 0.34167 0.20787 0.27605 0.55509 0.21754 0.61643 C 0.15903 0.67754 0.04931 0.45324 -0.01892 0.45231 C -0.08715 0.45116 -0.14409 0.62986 -0.19184 0.61065 C -0.23958 0.5919 -0.296 0.44282 -0.30538 0.33866 C -0.31475 0.23472 -0.27604 0.06041 -0.24861 -0.01273 C -0.22118 -0.08588 -0.18073 -0.10787 -0.14062 -0.1007 C -0.10052 -0.09398 -0.03385 0.01574 -0.00816 0.0287 C 0.01754 0.04213 0.00921 -0.01204 0.01355 -0.02176 E">
                                      <p:cBhvr>
                                        <p:cTn id="24" dur="3000" fill="hold"/>
                                        <p:tgtEl>
                                          <p:spTgt spid="124"/>
                                        </p:tgtEl>
                                      </p:cBhvr>
                                    </p:animMotion>
                                  </p:childTnLst>
                                </p:cTn>
                              </p:par>
                            </p:childTnLst>
                          </p:cTn>
                        </p:par>
                      </p:childTnLst>
                    </p:cTn>
                  </p:par>
                  <p:par>
                    <p:cTn id="25" fill="hold">
                      <p:stCondLst>
                        <p:cond delay="indefinite"/>
                      </p:stCondLst>
                      <p:childTnLst>
                        <p:par>
                          <p:cTn id="26" fill="hold">
                            <p:stCondLst>
                              <p:cond delay="0"/>
                            </p:stCondLst>
                            <p:childTnLst>
                              <p:par>
                                <p:cTn id="27" nodeType="clickEffect" fill="hold" presetClass="path" presetID="40">
                                  <p:stCondLst>
                                    <p:cond delay="0"/>
                                  </p:stCondLst>
                                  <p:childTnLst>
                                    <p:animMotion origin="layout" path="M -0.13698 -0.01088 C -0.13403 -0.03611 -0.13004 -0.06019 -0.12205 -0.06019 C -0.11302 -0.06019 -0.1099 -0.03611 -0.10695 -0.01088 C -0.10295 0.01713 -0.1 0.04514 -0.08993 0.04514 C -0.0809 0.04514 -0.07795 0.01713 -0.07396 -0.01088 C -0.07205 -0.03611 -0.06806 -0.06019 -0.05903 -0.06019 C -0.05104 -0.06019 -0.04705 -0.03611 -0.04392 -0.01088 C -0.04097 0.01713 -0.03698 0.04514 -0.02795 0.04514 C -0.01892 0.04514 -0.01198 -0.01088 -0.01198 -0.01065 C -0.00903 -0.03611 -0.0059 -0.06019 0.00295 -0.06019 C 0.01198 -0.06019 0.0151 -0.03611 0.01805 -0.01088 C 0.02205 0.01713 0.025 0.04514 0.03507 0.04514 C 0.0441 0.04514 0.04705 0.01713 0.05 -0.01088 C 0.05399 -0.03611 0.05694 -0.06019 0.06597 -0.06019 C 0.07396 -0.06019 0.07795 -0.03611 0.08108 -0.01088 C 0.08403 0.01713 0.08802 0.04514 0.09705 0.04514 C 0.10608 0.04514 0.10903 0.01713 0.11302 -0.01088 E">
                                      <p:cBhvr>
                                        <p:cTn id="28" dur="1000" fill="hold"/>
                                        <p:tgtEl>
                                          <p:spTgt spid="125">
                                            <p:txEl>
                                              <p:pRg st="0" end="0"/>
                                            </p:txEl>
                                          </p:spTgt>
                                        </p:tgtEl>
                                      </p:cBhvr>
                                    </p:animMotion>
                                  </p:childTnLst>
                                </p:cTn>
                              </p:par>
                            </p:childTnLst>
                          </p:cTn>
                        </p:par>
                      </p:childTnLst>
                    </p:cTn>
                  </p:par>
                  <p:par>
                    <p:cTn id="29" fill="hold">
                      <p:stCondLst>
                        <p:cond delay="indefinite"/>
                      </p:stCondLst>
                      <p:childTnLst>
                        <p:par>
                          <p:cTn id="30" fill="hold">
                            <p:stCondLst>
                              <p:cond delay="0"/>
                            </p:stCondLst>
                            <p:childTnLst>
                              <p:par>
                                <p:cTn id="31" nodeType="clickEffect" fill="hold" presetClass="path" presetID="40">
                                  <p:stCondLst>
                                    <p:cond delay="0"/>
                                  </p:stCondLst>
                                  <p:childTnLst>
                                    <p:animMotion origin="layout" path="M 0 0 C 0.003 -0.02533 0.007 -0.04933 0.015 -0.04933 C 0.024 -0.04933 0.027 -0.02533 0.03 0 C 0.034 0.028 0.037 0.056 0.047 0.056 C 0.056 0.056 0.059 0.028 0.063 0 C 0.065 -0.02533 0.069 -0.04933 0.078 -0.04933 C 0.086 -0.04933 0.09 -0.02533 0.093 0 C 0.096 0.028 0.1 0.056 0.109 0.056 C 0.118 0.056 0.125 0 0.125 0 C 0.128 -0.02533 0.131 -0.04933 0.14 -0.04933 C 0.149 -0.04933 0.152 -0.02533 0.155 0 C 0.159 0.028 0.162 0.056 0.172 0.056 C 0.181 0.056 0.184 0.028 0.187 0 C 0.191 -0.02533 0.194 -0.04933 0.203 -0.04933 C 0.211 -0.04933 0.215 -0.02533 0.218 0 C 0.221 0.028 0.225 0.056 0.234 0.056 C 0.243 0.056 0.246 0.028 0.25 0 E">
                                      <p:cBhvr>
                                        <p:cTn id="32" dur="1000" fill="hold"/>
                                        <p:tgtEl>
                                          <p:spTgt spid="125">
                                            <p:txEl>
                                              <p:pRg st="1" end="1"/>
                                            </p:txEl>
                                          </p:spTgt>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40">
                                  <p:stCondLst>
                                    <p:cond delay="0"/>
                                  </p:stCondLst>
                                  <p:childTnLst>
                                    <p:animMotion origin="layout" path="M 0 0 C 0.003 -0.02533 0.007 -0.04933 0.015 -0.04933 C 0.024 -0.04933 0.027 -0.02533 0.03 0 C 0.034 0.028 0.037 0.056 0.047 0.056 C 0.056 0.056 0.059 0.028 0.063 0 C 0.065 -0.02533 0.069 -0.04933 0.078 -0.04933 C 0.086 -0.04933 0.09 -0.02533 0.093 0 C 0.096 0.028 0.1 0.056 0.109 0.056 C 0.118 0.056 0.125 0 0.125 0 C 0.128 -0.02533 0.131 -0.04933 0.14 -0.04933 C 0.149 -0.04933 0.152 -0.02533 0.155 0 C 0.159 0.028 0.162 0.056 0.172 0.056 C 0.181 0.056 0.184 0.028 0.187 0 C 0.191 -0.02533 0.194 -0.04933 0.203 -0.04933 C 0.211 -0.04933 0.215 -0.02533 0.218 0 C 0.221 0.028 0.225 0.056 0.234 0.056 C 0.243 0.056 0.246 0.028 0.25 0 E">
                                      <p:cBhvr>
                                        <p:cTn id="36" dur="1000" fill="hold"/>
                                        <p:tgtEl>
                                          <p:spTgt spid="125">
                                            <p:txEl>
                                              <p:pRg st="2" end="2"/>
                                            </p:txEl>
                                          </p:spTgt>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path" presetID="40">
                                  <p:stCondLst>
                                    <p:cond delay="0"/>
                                  </p:stCondLst>
                                  <p:childTnLst>
                                    <p:animMotion origin="layout" path="M -0.25 4.44444E-006 C -0.24705 -0.02524 -0.24306 -0.04931 -0.23507 -0.04931 C -0.22604 -0.04931 -0.22292 -0.02524 -0.21997 4.44444E-006 C -0.21597 0.028 -0.21302 0.05601 -0.20295 0.05601 C -0.19392 0.05601 -0.19097 0.028 -0.18698 4.44444E-006 C -0.18507 -0.02524 -0.18108 -0.04931 -0.17205 -0.04931 C -0.16406 -0.04931 -0.16007 -0.02524 -0.15694 4.44444E-006 C -0.15399 0.028 -0.15 0.05601 -0.14097 0.05601 C -0.13194 0.05601 -0.125 4.44443999999999E-006 -0.125 0.00023 C -0.12205 -0.02524 -0.11892 -0.04931 -0.11007 -0.04931 C -0.10104 -0.04931 -0.09792 -0.02524 -0.09497 4.44444E-006 C -0.09097 0.028 -0.08802 0.05601 -0.07795 0.05601 C -0.06892 0.05601 -0.06597 0.028 -0.06302 4.44444E-006 C -0.05903 -0.02524 -0.05608 -0.04931 -0.04705 -0.04931 C -0.03906 -0.04931 -0.03507 -0.02524 -0.03194 4.44444E-006 C -0.02899 0.028 -0.025 0.05601 -0.01597 0.05601 C -0.00694 0.05601 -0.00399 0.028 0 4.44444E-006 E">
                                      <p:cBhvr>
                                        <p:cTn id="40" dur="1000" fill="hold"/>
                                        <p:tgtEl>
                                          <p:spTgt spid="125">
                                            <p:txEl>
                                              <p:pRg st="3" end="3"/>
                                            </p:txEl>
                                          </p:spTgt>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40">
                                  <p:stCondLst>
                                    <p:cond delay="0"/>
                                  </p:stCondLst>
                                  <p:childTnLst>
                                    <p:animMotion origin="layout" path="M -0.08177 0.00555 C -0.07882 -0.01968 -0.07483 -0.04375 -0.06684 -0.04375 C -0.05781 -0.04375 -0.05469 -0.01968 -0.05174 0.00555 C -0.04774 0.03356 -0.04479 0.06157 -0.03472 0.06157 C -0.02569 0.06157 -0.02274 0.03356 -0.01875 0.00555 C -0.01684 -0.01968 -0.01285 -0.04375 -0.00382 -0.04375 C 0.00417 -0.04375 0.00816 -0.01968 0.01129 0.00555 C 0.01424 0.03356 0.01823 0.06157 0.02726 0.06157 C 0.03629 0.06157 0.04323 0.00555 0.04323 0.00579 C 0.04618 -0.01968 0.04931 -0.04375 0.05816 -0.04375 C 0.06719 -0.04375 0.07031 -0.01968 0.07326 0.00555 C 0.07726 0.03356 0.08021 0.06157 0.09028 0.06157 C 0.09931 0.06157 0.10226 0.03356 0.10521 0.00555 C 0.1092 -0.01968 0.11215 -0.04375 0.12118 -0.04375 C 0.12917 -0.04375 0.13316 -0.01968 0.13629 0.00555 C 0.13924 0.03356 0.14323 0.06157 0.15226 0.06157 C 0.16129 0.06157 0.16424 0.03356 0.16823 0.00555 E">
                                      <p:cBhvr>
                                        <p:cTn id="44" dur="1000" fill="hold"/>
                                        <p:tgtEl>
                                          <p:spTgt spid="125">
                                            <p:txEl>
                                              <p:pRg st="4" end="4"/>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e3e3ff"/>
                </a:solidFill>
                <a:latin typeface="Arial"/>
              </a:rPr>
              <a:t>More facts</a:t>
            </a:r>
            <a:br>
              <a:rPr sz="4000"/>
            </a:br>
            <a:r>
              <a:rPr b="0" lang="en-US" sz="2800" spc="-1" strike="noStrike">
                <a:solidFill>
                  <a:srgbClr val="e3e3ff"/>
                </a:solidFill>
                <a:latin typeface="Arial"/>
              </a:rPr>
              <a:t>80% of Greece is covered by forest and no place in of Greece farther than 40km form the ocean the largest river in Greece is the Aliakmon river at 297km long. Also the largest lake is the Trichinous lake at about 95.840km long. About 50% is covered by hills or mountains.</a:t>
            </a:r>
            <a:endParaRPr b="0" lang="en-US" sz="2800" spc="-1" strike="noStrike">
              <a:solidFill>
                <a:srgbClr val="e3e3ff"/>
              </a:solidFill>
              <a:latin typeface="Arial"/>
            </a:endParaRPr>
          </a:p>
        </p:txBody>
      </p:sp>
      <p:pic>
        <p:nvPicPr>
          <p:cNvPr id="128" name="Picture 4" descr="Ancient Greece map"/>
          <p:cNvPicPr/>
          <p:nvPr/>
        </p:nvPicPr>
        <p:blipFill>
          <a:blip r:embed="rId1"/>
          <a:stretch/>
        </p:blipFill>
        <p:spPr>
          <a:xfrm>
            <a:off x="2743200" y="3809880"/>
            <a:ext cx="2700360" cy="285588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path" presetID="0">
                                  <p:stCondLst>
                                    <p:cond delay="0"/>
                                  </p:stCondLst>
                                  <p:childTnLst>
                                    <p:animMotion origin="layout" path="M 0 0 C 0.17969 -0.00393 0.35938 -0.0074 0.43959 0.06959 C 0.51979 0.14682 0.5099 0.41387 0.4809 0.46312 C 0.45191 0.51214 0.32084 0.3556 0.26511 0.36555 C 0.20938 0.37595 0.19809 0.54867 0.14601 0.52439 C 0.09393 0.50011 0.01702 0.26081 -0.04757 0.21988 C -0.11215 0.17873 -0.2066 0.30127 -0.24132 0.27884 C -0.27604 0.25688 -0.26771 0.12231 -0.25555 0.0867 C -0.2434 0.0511 -0.17639 0.08439 -0.16823 0.06566 C -0.16007 0.0467 -0.23663 -0.01388 -0.20642 -0.02521 C -0.17621 -0.03653 -0.03073 -0.01295 0.01268 -0.00208 C 0.05608 0.00878 0.05504 0.02451 0.054 0.04023 E">
                                      <p:cBhvr>
                                        <p:cTn id="50" dur="5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eece's Claimant</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warm summers and cool and rainy winters. It also had a stormy season.</a:t>
            </a:r>
            <a:endParaRPr b="0" lang="en-US" sz="32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1">
                                  <p:stCondLst>
                                    <p:cond delay="0"/>
                                  </p:stCondLst>
                                  <p:iterate type="lt">
                                    <p:tmAbs val="100"/>
                                  </p:iterate>
                                  <p:childTnLst>
                                    <p:set>
                                      <p:cBhvr>
                                        <p:cTn id="56" dur="1" fill="hold">
                                          <p:stCondLst>
                                            <p:cond delay="0"/>
                                          </p:stCondLst>
                                        </p:cTn>
                                        <p:tgtEl>
                                          <p:spTgt spid="129"/>
                                        </p:tgtEl>
                                        <p:attrNameLst>
                                          <p:attrName>style.visibility</p:attrName>
                                        </p:attrNameLst>
                                      </p:cBhvr>
                                      <p:to>
                                        <p:strVal val="visible"/>
                                      </p:to>
                                    </p:set>
                                    <p:anim calcmode="lin" valueType="num">
                                      <p:cBhvr additive="repl">
                                        <p:cTn id="57" dur="10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 dur="1000" fill="hold"/>
                                        <p:tgtEl>
                                          <p:spTgt spid="129"/>
                                        </p:tgtEl>
                                        <p:attrNameLst>
                                          <p:attrName>ppt_y</p:attrName>
                                        </p:attrNameLst>
                                      </p:cBhvr>
                                      <p:tavLst>
                                        <p:tav tm="0">
                                          <p:val>
                                            <p:strVal val="#ppt_y"/>
                                          </p:val>
                                        </p:tav>
                                        <p:tav tm="100000">
                                          <p:val>
                                            <p:strVal val="#ppt_y"/>
                                          </p:val>
                                        </p:tav>
                                      </p:tavLst>
                                    </p:anim>
                                    <p:anim calcmode="lin" valueType="num">
                                      <p:cBhvr additive="repl">
                                        <p:cTn id="59" dur="10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 dur="10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 dur="1000"/>
                                        <p:tgtEl>
                                          <p:spTgt spid="12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path" presetID="0">
                                  <p:stCondLst>
                                    <p:cond delay="0"/>
                                  </p:stCondLst>
                                  <p:childTnLst>
                                    <p:animMotion origin="layout" path="M 0 0 C 0.11909 -0.12185 0.23836 -0.24347 0.31111 -0.20925 C 0.38385 -0.17503 0.45711 0.07653 0.43645 0.20508 C 0.41579 0.33364 0.29079 0.54474 0.18732 0.56231 C 0.08385 0.57988 -0.09948 0.31352 -0.18421 0.31075 C -0.26893 0.30797 -0.31875 0.57503 -0.32066 0.54543 C -0.32257 0.51583 -0.26181 0.15468 -0.19532 0.13318 C -0.12882 0.11167 0.00451 0.3889 0.07777 0.41641 C 0.15104 0.44393 0.26215 0.34936 0.24444 0.29803 C 0.22673 0.2467 0.03246 0.13017 -0.02865 0.10797 C -0.08976 0.08578 -0.08039 0.1889 -0.12223 0.16485 C -0.16407 0.14081 -0.30053 -0.00671 -0.27935 -0.03584 C -0.25816 -0.06497 -0.12674 -0.03769 0.00468 -0.01041 E">
                                      <p:cBhvr>
                                        <p:cTn id="65" dur="2000" fill="hold"/>
                                        <p:tgtEl>
                                          <p:spTgt spid="130">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ations </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www.in2greece.com/english/maps/ancient-greece-map.htm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igreekmythology.com/ancient-greece.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8">
                                  <p:stCondLst>
                                    <p:cond delay="0"/>
                                  </p:stCondLst>
                                  <p:childTnLst>
                                    <p:set>
                                      <p:cBhvr>
                                        <p:cTn id="71" dur="1" fill="hold">
                                          <p:stCondLst>
                                            <p:cond delay="0"/>
                                          </p:stCondLst>
                                        </p:cTn>
                                        <p:tgtEl>
                                          <p:spTgt spid="131"/>
                                        </p:tgtEl>
                                        <p:attrNameLst>
                                          <p:attrName>style.visibility</p:attrName>
                                        </p:attrNameLst>
                                      </p:cBhvr>
                                      <p:to>
                                        <p:strVal val="visible"/>
                                      </p:to>
                                    </p:set>
                                    <p:anim calcmode="lin" valueType="num">
                                      <p:cBhvr additive="repl">
                                        <p:cTn id="72" dur="15000" fill="hold"/>
                                        <p:tgtEl>
                                          <p:spTgt spid="131"/>
                                        </p:tgtEl>
                                        <p:attrNameLst>
                                          <p:attrName>ppt_x</p:attrName>
                                        </p:attrNameLst>
                                      </p:cBhvr>
                                      <p:tavLst>
                                        <p:tav tm="0">
                                          <p:val>
                                            <p:strVal val="#ppt_x"/>
                                          </p:val>
                                        </p:tav>
                                        <p:tav tm="100000">
                                          <p:val>
                                            <p:strVal val="#ppt_x"/>
                                          </p:val>
                                        </p:tav>
                                      </p:tavLst>
                                    </p:anim>
                                    <p:anim calcmode="lin" valueType="num">
                                      <p:cBhvr additive="repl">
                                        <p:cTn id="73" dur="15000" fill="hold"/>
                                        <p:tgtEl>
                                          <p:spTgt spid="131"/>
                                        </p:tgtEl>
                                        <p:attrNameLst>
                                          <p:attrName>ppt_y</p:attrName>
                                        </p:attrNameLst>
                                      </p:cBhvr>
                                      <p:tavLst>
                                        <p:tav tm="0">
                                          <p:val>
                                            <p:strVal val="#ppt_y+1"/>
                                          </p:val>
                                        </p:tav>
                                        <p:tav tm="100000">
                                          <p:val>
                                            <p:strVal val="#ppt_y-1"/>
                                          </p:val>
                                        </p:tav>
                                      </p:tavLst>
                                    </p:anim>
                                  </p:childTnLst>
                                </p:cTn>
                              </p:par>
                              <p:par>
                                <p:cTn id="74" nodeType="withEffect" fill="hold" presetClass="entr" presetID="28">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5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77" dur="15000" fill="hold"/>
                                        <p:tgtEl>
                                          <p:spTgt spid="132">
                                            <p:txEl>
                                              <p:pRg st="0" end="0"/>
                                            </p:txEl>
                                          </p:spTgt>
                                        </p:tgtEl>
                                        <p:attrNameLst>
                                          <p:attrName>ppt_y</p:attrName>
                                        </p:attrNameLst>
                                      </p:cBhvr>
                                      <p:tavLst>
                                        <p:tav tm="0">
                                          <p:val>
                                            <p:strVal val="#ppt_y+1"/>
                                          </p:val>
                                        </p:tav>
                                        <p:tav tm="100000">
                                          <p:val>
                                            <p:strVal val="#ppt_y-1"/>
                                          </p:val>
                                        </p:tav>
                                      </p:tavLst>
                                    </p:anim>
                                  </p:childTnLst>
                                </p:cTn>
                              </p:par>
                              <p:par>
                                <p:cTn id="78" nodeType="withEffect" fill="hold" presetClass="entr" presetID="28">
                                  <p:stCondLst>
                                    <p:cond delay="0"/>
                                  </p:stCondLst>
                                  <p:childTnLst>
                                    <p:set>
                                      <p:cBhvr>
                                        <p:cTn id="79" dur="1" fill="hold">
                                          <p:stCondLst>
                                            <p:cond delay="0"/>
                                          </p:stCondLst>
                                        </p:cTn>
                                        <p:tgtEl>
                                          <p:spTgt spid="132"/>
                                        </p:tgtEl>
                                        <p:attrNameLst>
                                          <p:attrName>style.visibility</p:attrName>
                                        </p:attrNameLst>
                                      </p:cBhvr>
                                      <p:to>
                                        <p:strVal val="visible"/>
                                      </p:to>
                                    </p:set>
                                    <p:anim calcmode="lin" valueType="num">
                                      <p:cBhvr additive="repl">
                                        <p:cTn id="80" dur="15000" fill="hold"/>
                                        <p:tgtEl>
                                          <p:spTgt spid="132"/>
                                        </p:tgtEl>
                                        <p:attrNameLst>
                                          <p:attrName>ppt_x</p:attrName>
                                        </p:attrNameLst>
                                      </p:cBhvr>
                                      <p:tavLst>
                                        <p:tav tm="0">
                                          <p:val>
                                            <p:strVal val="#ppt_x"/>
                                          </p:val>
                                        </p:tav>
                                        <p:tav tm="100000">
                                          <p:val>
                                            <p:strVal val="#ppt_x"/>
                                          </p:val>
                                        </p:tav>
                                      </p:tavLst>
                                    </p:anim>
                                    <p:anim calcmode="lin" valueType="num">
                                      <p:cBhvr additive="repl">
                                        <p:cTn id="81" dur="15000" fill="hold"/>
                                        <p:tgtEl>
                                          <p:spTgt spid="1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7:51:17Z</dcterms:created>
  <dc:creator>Administrator</dc:creator>
  <dc:description/>
  <dc:language>en-US</dc:language>
  <cp:lastModifiedBy>Owner</cp:lastModifiedBy>
  <dcterms:modified xsi:type="dcterms:W3CDTF">2011-05-18T18:55:53Z</dcterms:modified>
  <cp:revision>12</cp:revision>
  <dc:subject/>
  <dc:title>Acient Greece Geography</dc:title>
</cp:coreProperties>
</file>